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90A15-B5CE-41ED-A798-51E941E9C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36047-3E05-4343-A6BA-9A8567F84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7DCCE-D425-4893-82F7-D523F39FA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1A5CD-DA68-4A76-94CC-75891C292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4778A-A7FE-4989-A81D-CCA1319DF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DAF71-BB13-448E-9123-D1B824379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6C5F8-5BA2-48F4-A837-AAB2FD7F2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AB7CE-44CC-47E6-B7CA-B2AE3DCFD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500F5-9060-4492-B16A-600CF1CC0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BAEB6-65B1-4824-92BD-F435A6C0C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3F143-AA1A-4779-8E46-69AF82472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2540D-BC35-4159-BF59-7EB044CDB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E9180-2D75-483A-9E30-BB82853F55DC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3068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فصل الثام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تحليل التقارير المالية في ظل التضخم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E261A-E209-4C3B-8174-04988CAF2B30}" type="slidenum">
              <a:t>1</a:t>
            </a:fld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667080" y="1477800"/>
            <a:ext cx="7660800" cy="1031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d6ff99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ا هو التضخم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70320" y="3191040"/>
            <a:ext cx="7650720" cy="219276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ffffff"/>
              </a:gs>
              <a:gs pos="100000">
                <a:srgbClr val="ccccff"/>
              </a:gs>
            </a:gsLst>
            <a:lin ang="5400000"/>
          </a:gradFill>
          <a:ln w="28440">
            <a:solidFill>
              <a:srgbClr val="3333cc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زيادة كمية النقود المتوفرة على كمية السلع والخدمات المعروض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زيادة العامة في الاسعا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نخفاض القوة الشرائية للنقود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من: تحليل التقارير المالية في ظل التضخ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D0AB4-922D-4674-BFC2-4D06CBCBD644}" type="slidenum">
              <a:t>2</a:t>
            </a:fld>
          </a:p>
        </p:txBody>
      </p:sp>
    </p:spTree>
  </p:cSld>
  <p:transition>
    <p:random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052280"/>
            <a:ext cx="7772400" cy="114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d6ff99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6600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طرق تعديل القوائم المال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362320" y="3002040"/>
            <a:ext cx="4114800" cy="828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طريقة وحدة النقد المتجانس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362320" y="4678200"/>
            <a:ext cx="4267080" cy="838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طريقة التكلفة الجار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من: تحليل التقارير المالية في ظل التضخ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3FFCF-8CF6-4E7F-9C01-878B00306429}" type="slidenum">
              <a:t>3</a:t>
            </a:fld>
          </a:p>
        </p:txBody>
      </p:sp>
    </p:spTree>
  </p:cSld>
  <p:transition>
    <p:random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685800" y="1346040"/>
            <a:ext cx="7772760" cy="9082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d6ff99"/>
              </a:gs>
              <a:gs pos="100000">
                <a:srgbClr val="ccccff"/>
              </a:gs>
            </a:gsLst>
            <a:lin ang="5400000"/>
          </a:gradFill>
          <a:ln w="38160">
            <a:solidFill>
              <a:srgbClr val="00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طريقة وحدة النقد المتجانس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9640" y="2917800"/>
            <a:ext cx="8015400" cy="33195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تعديل التكلفة التاريخية للاصول والالتزامات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على أساس وحدة نقدية ذات قوة شرائية متساوية مرتبطة بالتغير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في المستوى العام للاسعا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وبناءً عليه يتم تصنيف محتويات قائمة المركز المالي إلى نوعي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من الحسابات: الحسابات النقدية والحسابات غير النقد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791320" y="641664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من: تحليل التقارير المالية في ظل التضخ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36E48-D992-4641-8946-BB21714F3516}" type="slidenum">
              <a:t>4</a:t>
            </a:fld>
          </a:p>
        </p:txBody>
      </p:sp>
    </p:spTree>
  </p:cSld>
  <p:transition>
    <p:random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8201160" y="1714680"/>
            <a:ext cx="360360" cy="374472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4360" y="825120"/>
            <a:ext cx="8020080" cy="947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b2b2b2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طريقة وحدة النقد المتجانس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2205000"/>
            <a:ext cx="6933960" cy="1681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50000">
                <a:srgbClr val="d6ff99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ctr" rtl="1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حسابات النقدية مثل المدينون واوراق القبض والمصروفات المقدمة والدائنون واوراق الدفع والمصروفات المستحقة </a:t>
            </a:r>
            <a:r>
              <a:rPr b="1" lang="ar-SA" sz="2400" spc="-1" strike="noStrike" u="sng">
                <a:solidFill>
                  <a:srgbClr val="000000"/>
                </a:solidFill>
                <a:uFillTx/>
                <a:latin typeface="Times New Roman"/>
                <a:cs typeface="PT Bold Heading"/>
              </a:rPr>
              <a:t>لا تعدل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55640" y="4365720"/>
            <a:ext cx="7010280" cy="180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50000">
                <a:srgbClr val="d6ff99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ctr" rtl="1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حسابات غير النقدية مثل المخزون والمباني وحقوق الملكية تعدل على النحو التالي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تكلفة التاريخية (الرقم القياسي للاسعار الآن / الرقم القياسي للاسعار وقت الشراء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10800000">
            <a:off x="7596360" y="2852280"/>
            <a:ext cx="792000" cy="360360"/>
          </a:xfrm>
          <a:custGeom>
            <a:avLst/>
            <a:gdLst>
              <a:gd name="textAreaLeft" fmla="*/ 0 w 792000"/>
              <a:gd name="textAreaRight" fmla="*/ 792360 w 79200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rot="10800000">
            <a:off x="7740720" y="5113080"/>
            <a:ext cx="792000" cy="360360"/>
          </a:xfrm>
          <a:custGeom>
            <a:avLst/>
            <a:gdLst>
              <a:gd name="textAreaLeft" fmla="*/ 0 w 792000"/>
              <a:gd name="textAreaRight" fmla="*/ 792360 w 79200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791320" y="641664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من: تحليل التقارير المالية في ظل التضخ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7BAF7-21CB-4CA4-8DD5-ABDDA2091475}" type="slidenum">
              <a:t>5</a:t>
            </a:fld>
          </a:p>
        </p:txBody>
      </p:sp>
    </p:spTree>
  </p:cSld>
  <p:transition>
    <p:random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685800" y="1203120"/>
            <a:ext cx="7772760" cy="90792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d6ff99"/>
              </a:gs>
              <a:gs pos="100000">
                <a:srgbClr val="ccccff"/>
              </a:gs>
            </a:gsLst>
            <a:lin ang="5400000"/>
          </a:gradFill>
          <a:ln w="38160">
            <a:solidFill>
              <a:srgbClr val="00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طريقة التكلفة الجا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04960" y="2917800"/>
            <a:ext cx="7512120" cy="3319560"/>
          </a:xfrm>
          <a:prstGeom prst="ellipse">
            <a:avLst/>
          </a:prstGeom>
          <a:gradFill rotWithShape="0">
            <a:gsLst>
              <a:gs pos="0">
                <a:srgbClr val="ccccff"/>
              </a:gs>
              <a:gs pos="50000">
                <a:srgbClr val="d6ff99"/>
              </a:gs>
              <a:gs pos="100000">
                <a:srgbClr val="ccccff"/>
              </a:gs>
            </a:gsLst>
            <a:lin ang="5400000"/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تعدل التكلفة التاريخية على أساس تكلفة الاحلال الجارية في السو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للأصول المماثلة في العمر والكفاءة والطاقة الإنتاج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791320" y="634536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من: تحليل التقارير المالية في ظل التضخ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53343-F9E6-4CE1-8331-8A50BE9423FF}" type="slidenum">
              <a:t>6</a:t>
            </a:fld>
          </a:p>
        </p:txBody>
      </p:sp>
    </p:spTree>
  </p:cSld>
  <p:transition>
    <p:random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28T10:54:15Z</dcterms:created>
  <dc:creator>**</dc:creator>
  <dc:description/>
  <dc:language>en-US</dc:language>
  <cp:lastModifiedBy>****</cp:lastModifiedBy>
  <dcterms:modified xsi:type="dcterms:W3CDTF">2003-12-08T01:13:06Z</dcterms:modified>
  <cp:revision>18</cp:revision>
  <dc:subject/>
  <dc:title>التحليل المالي والائتماني</dc:title>
</cp:coreProperties>
</file>